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37.png" ContentType="image/png"/>
  <Override PartName="/ppt/media/image45.jpeg" ContentType="image/jpeg"/>
  <Override PartName="/ppt/media/image39.png" ContentType="image/pn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C66-FED6-47C3-9C1B-8DD8848A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FD3-A6D7-468C-A133-0932D2D5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4F6-EC56-4198-B48B-F39F8276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286-5284-474F-8603-E054C67D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CDF5-5F1E-423B-BFC6-5EBAAB3E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ACF-C714-48B6-BAF3-7F4C4FF8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AB27-942D-43E0-9286-EFB9D48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8354-2603-452C-A7B2-609F171F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C9B3-277D-4E68-AF0A-095CD32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25D-06E3-4BFA-A30F-5A3DC8C7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7271-A371-4C59-9F6E-F348D92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359-01BD-4EDD-AAA1-0A6CE6F4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9AF4-6C1D-4D1F-B01F-61E9B70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46A0-489A-49A7-8F6F-A281A3B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9EF-8E78-4CB4-B7BA-5DA0337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FE8C-0E20-4C3E-BEBF-C1604829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8C7D-DFF1-49EC-9A34-5D191003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F6A-B49E-43D4-ACF3-67F3B9A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201-9727-42B1-B775-6D7C7825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E63-3E09-4620-9D1E-D026705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85D-B828-4BB5-9402-FBE4D0D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7B9-B530-438C-806E-0374FAD6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5BA-30C5-454C-93E8-E1764673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7E0-2335-41A2-8717-8000A83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04B-2A36-4C6E-BEDA-6C91C35A75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8E08-ECED-4494-A338-5D6F2A2F38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hyperlink" Target="http://www.realto.ru/journal/?PHPSESSID=vjg5u9nm6vg0enf163gt65r3j2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1523880"/>
            <a:ext cx="794376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оссия в конц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XIX- начале XXвеков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4267080"/>
            <a:ext cx="8763120" cy="234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в других странах, вставших на индустриальные рельсы, наиболее могущественным с экономической точки зрения классом российского общества являлась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уржуа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исл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 буржуазии (т. е. имеющей доходы свыше 10 тыс. р. в год) составляла примерно 25 тыс. человек в 1910 г. — около 30 ты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http://s56.radikal.ru/i153/0903/4b/6e76abe19fc1.jpg"/>
          <p:cNvPicPr/>
          <p:nvPr/>
        </p:nvPicPr>
        <p:blipFill>
          <a:blip r:embed="rId3"/>
          <a:stretch/>
        </p:blipFill>
        <p:spPr>
          <a:xfrm>
            <a:off x="1828800" y="914400"/>
            <a:ext cx="5334120" cy="3246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572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буржуазия не имела прочной опоры в обществе, так как практически отсутствовали средние слои населения, т. е. мелкие собственники. Она была тесно связана с правительством, не имела политических прав. На фабриках и заводах существовала беспощадная эксплуатация наемных рабоч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http://img11.nnm.ru/8/7/c/c/0/1504b0e41e2b0991128e00a5b6f_prev.jpg"/>
          <p:cNvPicPr/>
          <p:nvPr/>
        </p:nvPicPr>
        <p:blipFill>
          <a:blip r:embed="rId3"/>
          <a:stretch/>
        </p:blipFill>
        <p:spPr>
          <a:xfrm>
            <a:off x="1447920" y="838080"/>
            <a:ext cx="6172200" cy="3211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3581280"/>
            <a:ext cx="84582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представители российской буржуазии были образованными людьми, занимались благотворительностью,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ценатс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ветительской деятельностью. Текстильный фабрикан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.М. Третья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л в дар Москве уникальную коллекцию русской национальной живописи и великолепное здание, в котором она размещалась. При финансовой помощи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.Т. Мороз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создан Московский художественный теа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http://artclassic.edu.ru/attach.asp?a_no=7285"/>
          <p:cNvPicPr/>
          <p:nvPr/>
        </p:nvPicPr>
        <p:blipFill>
          <a:blip r:embed="rId3"/>
          <a:stretch/>
        </p:blipFill>
        <p:spPr>
          <a:xfrm>
            <a:off x="4495680" y="1066680"/>
            <a:ext cx="2514600" cy="2256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3" name="Picture 7" descr="http://www.brfond.ru/book/theatre/ill003.jpg"/>
          <p:cNvPicPr/>
          <p:nvPr/>
        </p:nvPicPr>
        <p:blipFill>
          <a:blip r:embed="rId4"/>
          <a:stretch/>
        </p:blipFill>
        <p:spPr>
          <a:xfrm>
            <a:off x="2438280" y="1066680"/>
            <a:ext cx="148140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7101000" y="205740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.М. Третья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26440" y="210672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.Т. Мороз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510552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было примерн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13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мных рабочих, из них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2,8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томственные рабочие, остальные — рабочие в первом поколении, как правило, выходцы из дерев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data10.gallery.ru/albums/gallery/243842-4ba43-28867599-h200.jpg"/>
          <p:cNvPicPr/>
          <p:nvPr/>
        </p:nvPicPr>
        <p:blipFill>
          <a:blip r:embed="rId3"/>
          <a:stretch/>
        </p:blipFill>
        <p:spPr>
          <a:xfrm>
            <a:off x="1143000" y="1066680"/>
            <a:ext cx="6477120" cy="379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социальной группой в России являло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местное дворян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мещики  владели  огромной  земельной собственностью, но и здесь происходили перемены. Землевладение  перестало  быть  исключительно дворянск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http://img-fotki.yandex.ru/get/3314/alicja-fox.8/0_26f81_fab7f83b_L.jpg"/>
          <p:cNvPicPr/>
          <p:nvPr/>
        </p:nvPicPr>
        <p:blipFill>
          <a:blip r:embed="rId3"/>
          <a:stretch/>
        </p:blipFill>
        <p:spPr>
          <a:xfrm>
            <a:off x="1066680" y="863640"/>
            <a:ext cx="6858000" cy="3790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419112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тьянской среде шло имущественное расслоение. В деревне появились люди, главным источником богатства которых была эксплуатация наемного труда, торговля, ростовщичество. Именно их, а не всех зажиточных хозяев называли кулаками. 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улаки составляли 2—3 % крестьянского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791240" y="218916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19240" y="2189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Русские крестьяне"/>
          <p:cNvPicPr/>
          <p:nvPr/>
        </p:nvPicPr>
        <p:blipFill>
          <a:blip r:embed="rId3"/>
          <a:stretch/>
        </p:blipFill>
        <p:spPr>
          <a:xfrm>
            <a:off x="1447920" y="990720"/>
            <a:ext cx="6324480" cy="309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304920" y="5029200"/>
            <a:ext cx="84582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примыкали примерно 15 % зажиточных крестьян. Главным мерилом зажиточности было наличие определенного количества скота — более четырех лошадей, столько же кор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http://www.ekonomika09.ru/files/018818.jpg"/>
          <p:cNvPicPr/>
          <p:nvPr/>
        </p:nvPicPr>
        <p:blipFill>
          <a:blip r:embed="rId2"/>
          <a:stretch/>
        </p:blipFill>
        <p:spPr>
          <a:xfrm>
            <a:off x="1447920" y="990720"/>
            <a:ext cx="5851440" cy="3806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419112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угом полюсе деревни — безлошадные хозяйства (примерно 25 %). Крайним проявлением бедности было отсутствие коровы — таких хозяйств насчитывалось до 10 %. Крестьянство задыхалось от острого малоземелья. Земли не хватало, многие крестьяне были вынуждены арендовать землю у помещ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821120" y="205092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49120" y="2050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9" descr="В.Е.Маковский. Крестьянские дети"/>
          <p:cNvPicPr/>
          <p:nvPr/>
        </p:nvPicPr>
        <p:blipFill>
          <a:blip r:embed="rId3"/>
          <a:stretch/>
        </p:blipFill>
        <p:spPr>
          <a:xfrm>
            <a:off x="1600200" y="914400"/>
            <a:ext cx="5791320" cy="309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общественной жизни России играла интеллигенция. 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2,7 % населения занималось преимущественно умственным трудом: ученые, преподаватели, врачи, лица свободных профессий (адвокаты, журналисты, писатели, артисты и др.) К 1917 г. их количество удвоилось и составило 1,5 млн челов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http://statehistory.ru/img_lib/blog/school.jpg"/>
          <p:cNvPicPr/>
          <p:nvPr/>
        </p:nvPicPr>
        <p:blipFill>
          <a:blip r:embed="rId3"/>
          <a:stretch/>
        </p:blipFill>
        <p:spPr>
          <a:xfrm>
            <a:off x="1523880" y="914400"/>
            <a:ext cx="5562720" cy="3300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380880" y="990720"/>
            <a:ext cx="8325000" cy="26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экономическое развити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траны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4572000"/>
            <a:ext cx="8305920" cy="210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Российская империя была одной и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рупнейших стран м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размерам территории — более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22 млн к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чти 17% обитаемой суши) — она занимала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торое мес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уп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Британской импе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карта"/>
          <p:cNvPicPr/>
          <p:nvPr/>
        </p:nvPicPr>
        <p:blipFill>
          <a:blip r:embed="rId3"/>
          <a:stretch/>
        </p:blipFill>
        <p:spPr>
          <a:xfrm>
            <a:off x="762120" y="990720"/>
            <a:ext cx="7772400" cy="33969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устриальное общество характеризуется преобладанием промышленного производства над сельским хозяйством. Россия в ко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оставалась сельскохозяйственной страной, но ее промышленность переживала бурный подъ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http://www.informexpo.ru/new/images/Krestianstvo.jpg"/>
          <p:cNvPicPr/>
          <p:nvPr/>
        </p:nvPicPr>
        <p:blipFill>
          <a:blip r:embed="rId3"/>
          <a:stretch/>
        </p:blipFill>
        <p:spPr>
          <a:xfrm>
            <a:off x="1523880" y="914400"/>
            <a:ext cx="6019920" cy="3657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ом к росту производства стало железнодорожное строитель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ть железных дорог увеличивалась в 1895—1899 гг. в среднем более чем на 3 тыс. км в год, в следующие пять лет — более чем на 2 тыс. км в год. Огромное значение для развития промышленности и сельского хозяйства имело строительство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еликой Сибирской железнодорожной магистрали (Транссиб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Рисунок10"/>
          <p:cNvPicPr/>
          <p:nvPr/>
        </p:nvPicPr>
        <p:blipFill>
          <a:blip r:embed="rId3"/>
          <a:stretch/>
        </p:blipFill>
        <p:spPr>
          <a:xfrm>
            <a:off x="1600200" y="914400"/>
            <a:ext cx="5943600" cy="3154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14200" y="214200"/>
            <a:ext cx="8643960" cy="37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Багетная рамка 2"/>
          <p:cNvSpPr/>
          <p:nvPr/>
        </p:nvSpPr>
        <p:spPr>
          <a:xfrm>
            <a:off x="228600" y="380880"/>
            <a:ext cx="2357280" cy="121464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Стрелка вправо 3"/>
          <p:cNvSpPr/>
          <p:nvPr/>
        </p:nvSpPr>
        <p:spPr>
          <a:xfrm>
            <a:off x="2666880" y="304920"/>
            <a:ext cx="1676520" cy="13809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лужило толч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Облако 7"/>
          <p:cNvSpPr/>
          <p:nvPr/>
        </p:nvSpPr>
        <p:spPr>
          <a:xfrm>
            <a:off x="5867280" y="2057400"/>
            <a:ext cx="3276720" cy="185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Облако 11"/>
          <p:cNvSpPr/>
          <p:nvPr/>
        </p:nvSpPr>
        <p:spPr>
          <a:xfrm>
            <a:off x="4419720" y="152280"/>
            <a:ext cx="3071520" cy="1857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е металлур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Облако 12"/>
          <p:cNvSpPr/>
          <p:nvPr/>
        </p:nvSpPr>
        <p:spPr>
          <a:xfrm>
            <a:off x="2514600" y="2971800"/>
            <a:ext cx="3024360" cy="15001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Облако 13"/>
          <p:cNvSpPr/>
          <p:nvPr/>
        </p:nvSpPr>
        <p:spPr>
          <a:xfrm>
            <a:off x="0" y="1676520"/>
            <a:ext cx="3033720" cy="1500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Облако 14"/>
          <p:cNvSpPr/>
          <p:nvPr/>
        </p:nvSpPr>
        <p:spPr>
          <a:xfrm>
            <a:off x="152280" y="4343400"/>
            <a:ext cx="2952720" cy="15001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Прямая со стрелкой 16"/>
          <p:cNvCxnSpPr/>
          <p:nvPr/>
        </p:nvCxnSpPr>
        <p:spPr>
          <a:xfrm>
            <a:off x="7009200" y="1676520"/>
            <a:ext cx="143640" cy="3578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4" name="Прямая со стрелкой 17"/>
          <p:cNvCxnSpPr/>
          <p:nvPr/>
        </p:nvCxnSpPr>
        <p:spPr>
          <a:xfrm flipH="1">
            <a:off x="5485680" y="3123000"/>
            <a:ext cx="500760" cy="723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5" name="Прямая со стрелкой 19"/>
          <p:cNvCxnSpPr/>
          <p:nvPr/>
        </p:nvCxnSpPr>
        <p:spPr>
          <a:xfrm flipH="1">
            <a:off x="3047400" y="1676520"/>
            <a:ext cx="1786680" cy="4291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6" name="Прямая со стрелкой 22"/>
          <p:cNvCxnSpPr/>
          <p:nvPr/>
        </p:nvCxnSpPr>
        <p:spPr>
          <a:xfrm flipH="1">
            <a:off x="3580920" y="4114800"/>
            <a:ext cx="3144240" cy="7149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7" name="Прямая со стрелкой 24"/>
          <p:cNvCxnSpPr/>
          <p:nvPr/>
        </p:nvCxnSpPr>
        <p:spPr>
          <a:xfrm flipV="1">
            <a:off x="1142640" y="3809880"/>
            <a:ext cx="1072440" cy="6433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8" name="Равно 26"/>
          <p:cNvSpPr/>
          <p:nvPr/>
        </p:nvSpPr>
        <p:spPr>
          <a:xfrm>
            <a:off x="2895480" y="5715000"/>
            <a:ext cx="157176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4495680" y="5424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4071960" y="4876920"/>
            <a:ext cx="50720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Рисунок 31" descr="3243169_1_23566.jpg"/>
          <p:cNvPicPr/>
          <p:nvPr/>
        </p:nvPicPr>
        <p:blipFill>
          <a:blip r:embed="rId6"/>
          <a:stretch/>
        </p:blipFill>
        <p:spPr>
          <a:xfrm>
            <a:off x="7858080" y="311040"/>
            <a:ext cx="10731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422520"/>
            <a:ext cx="91440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железных дорог способствовало увеличению производства металла, продукции тяжелого машиностроения, угля, леса и других материалов. Особенно быстрыми темпами развивались отрасли народного хозяйства, связанные с новыми видами топлива — углем и нефтью, добыча которых увеличилась в 3 раза. В целом выпуск продукции тяжелой промышленности увеличился в 2,3 раза. Темпы промышленного роста в России были самыми высокими в мире — до 8,1 % в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http://www.kievscripo.com/img/borislav-oil-fields-photo11.jpg"/>
          <p:cNvPicPr/>
          <p:nvPr/>
        </p:nvPicPr>
        <p:blipFill>
          <a:blip r:embed="rId3"/>
          <a:stretch/>
        </p:blipFill>
        <p:spPr>
          <a:xfrm>
            <a:off x="380880" y="838080"/>
            <a:ext cx="3714840" cy="246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5" name="Picture 7" descr="http://actualhistory.ru/app/var/pub/files/285/nobel.jpg"/>
          <p:cNvPicPr/>
          <p:nvPr/>
        </p:nvPicPr>
        <p:blipFill>
          <a:blip r:embed="rId4"/>
          <a:stretch/>
        </p:blipFill>
        <p:spPr>
          <a:xfrm>
            <a:off x="4495680" y="838080"/>
            <a:ext cx="3886200" cy="2416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990720"/>
            <a:ext cx="8458200" cy="413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книги французского экономиста Э. Тэ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оссия в 1914 г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 страны имеют то преимущество, что могут немедленно воспользоваться плодами прогресса, добытыми долгими годами опыта в старых промышленных странах. Вот почему шахты и металлургические предприятия, созданные в пустынных степях южной России, были сразу оснащены по образцу наиболее усовершенствованных предприятий Западной Евро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Какими преимуществами обладала российская промышленнос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451800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м показателям эконом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изводству промышленной продукции на душу населения, производительности труда, технической оснащенности предприят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Рисунок9"/>
          <p:cNvPicPr/>
          <p:nvPr/>
        </p:nvPicPr>
        <p:blipFill>
          <a:blip r:embed="rId3"/>
          <a:stretch/>
        </p:blipFill>
        <p:spPr>
          <a:xfrm>
            <a:off x="1371600" y="914400"/>
            <a:ext cx="5943600" cy="33591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02" name="Text Box 5"/>
          <p:cNvSpPr/>
          <p:nvPr/>
        </p:nvSpPr>
        <p:spPr>
          <a:xfrm>
            <a:off x="304920" y="4700520"/>
            <a:ext cx="8458200" cy="211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социально-экономического развития она являлась среднеразвитой аграрно-индустриальной страной, имеющей значительный потенци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была страной с многоукладной экономик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19520" y="228600"/>
            <a:ext cx="3047760" cy="459720"/>
          </a:xfrm>
          <a:prstGeom prst="rect">
            <a:avLst/>
          </a:prstGeom>
          <a:solidFill>
            <a:srgbClr val="ff006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одерниз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48120" y="1143000"/>
            <a:ext cx="266688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сий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коном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0880" y="2819520"/>
            <a:ext cx="358164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грает главную р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952880" y="2743200"/>
            <a:ext cx="3581640" cy="138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укладность, больш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с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57200" y="4191120"/>
            <a:ext cx="3505320" cy="8254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ассовое строительство 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905120" y="5638680"/>
            <a:ext cx="525780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урное развитие тяжел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добывающей промышл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029200" y="4419720"/>
            <a:ext cx="350532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изкие качеств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каз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343400" y="7621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1905120" y="2209680"/>
            <a:ext cx="259056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495680" y="2209680"/>
            <a:ext cx="259092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3962160" y="2209680"/>
            <a:ext cx="53316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95680" y="2209680"/>
            <a:ext cx="533520" cy="2514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России было наличие крупного государственного сектора экономики. Его ядром были казенные (от слова «казна») заводы, которые удовлетворяли военные нужды государства. Они принадлежали государству и им же финансирова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м заказчиком и покупателем их продукции являлось государство, а управлялись они государственными чиновниками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рупнейших казенных заводов было около 30: Тульский, Ижевский, Сестрорецкий, Обуховский, Ижорский и д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Рисунок8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33520" y="1066680"/>
            <a:ext cx="8076960" cy="3552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20" name="Text Box 6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государству принадлежали свыше 2/3 железнодорожной сети, огромные земельные и лесные угодья, почтовая и телеграфная связь. Правительство влияло на хозяйственную деятельность частных предприят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Горизонтальный свиток 2"/>
          <p:cNvSpPr/>
          <p:nvPr/>
        </p:nvSpPr>
        <p:spPr>
          <a:xfrm>
            <a:off x="304920" y="914400"/>
            <a:ext cx="2928960" cy="7858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105520" y="12193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5105520" y="19051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181480" y="281952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5181480" y="388620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Рисунок 7" descr="Красный выбуржец.jpg"/>
          <p:cNvPicPr/>
          <p:nvPr/>
        </p:nvPicPr>
        <p:blipFill>
          <a:blip r:embed="rId3"/>
          <a:stretch/>
        </p:blipFill>
        <p:spPr>
          <a:xfrm>
            <a:off x="228600" y="2057400"/>
            <a:ext cx="428616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8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создавало благоприятные условия для привлечения иностранного капитала. Важную роль сыграла проведенная в 1897 г. по инициативе министра финансов С.Ю. Витте денежная реформа. Она ввела золотое обеспечение рубля, свободный обмен бумажных денег на золот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5480" y="38862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Ю. Вит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6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838080" y="990720"/>
            <a:ext cx="2111400" cy="2895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Рисунок 3" descr="10r1899.jpg"/>
          <p:cNvPicPr/>
          <p:nvPr/>
        </p:nvPicPr>
        <p:blipFill>
          <a:blip r:embed="rId4"/>
          <a:stretch/>
        </p:blipFill>
        <p:spPr>
          <a:xfrm>
            <a:off x="3505320" y="1066680"/>
            <a:ext cx="5257800" cy="2640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4267080" y="36576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4920" y="1676520"/>
            <a:ext cx="8839080" cy="21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Инвестиции</a:t>
            </a:r>
            <a:r>
              <a:rPr b="1" i="1" lang="ru-RU" sz="4400" spc="-1" strike="noStrike" u="sng">
                <a:solidFill>
                  <a:srgbClr val="59a9e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долгосрочные вложения капитала в экономи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26"/>
          <p:cNvSpPr/>
          <p:nvPr/>
        </p:nvSpPr>
        <p:spPr>
          <a:xfrm>
            <a:off x="152280" y="4724280"/>
            <a:ext cx="88394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ерепис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897 г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рритории страны проживало более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28 млн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 (третье место после Британской империи и Китая).Российская империя была многонациональной страной. В ней проживало более 100 народов и народ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028" descr="нац состав"/>
          <p:cNvPicPr/>
          <p:nvPr/>
        </p:nvPicPr>
        <p:blipFill>
          <a:blip r:embed="rId3"/>
          <a:stretch/>
        </p:blipFill>
        <p:spPr>
          <a:xfrm>
            <a:off x="1371600" y="1066680"/>
            <a:ext cx="6477120" cy="35053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1440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иностран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ую экономику составляли почти 40 % всех капиталовло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228600" y="2819520"/>
            <a:ext cx="2444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39" name="AutoShape 5"/>
          <p:cNvSpPr/>
          <p:nvPr/>
        </p:nvSpPr>
        <p:spPr>
          <a:xfrm>
            <a:off x="2971800" y="2286000"/>
            <a:ext cx="6172200" cy="4419720"/>
          </a:xfrm>
          <a:prstGeom prst="wedgeRoundRectCallout">
            <a:avLst>
              <a:gd name="adj1" fmla="val -62629"/>
              <a:gd name="adj2" fmla="val 5171"/>
              <a:gd name="adj3" fmla="val 16667"/>
            </a:avLst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шей бедности капиталов внутри страны, при необходимости значительную часть 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ений расходовать на государственные потребности, особенно на усиление боевой готовности и на развитие железных дорог, необходимый рост нашей... промышленности может совершаться не иначе, как при непосредственном содействии иностранных капит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04920" y="9144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Доклад был представлен царю в 1900 г. Почему, по мнению Вит­те, в Россию необходимо привлекать иностранный капита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480060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привлечение иностранного капитала не привело к созданию иностранных зон влияния, к полной или даже частичной зависимости России от иностранных компаний и государст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компании и банки не вели самостоятельной экономической политики, не имели возможности влиять на политические решения. Приходя в Россию, иностранный капитал сращивался с капиталом отечественным, расширялись возможности для включения России в мировую экономическую сист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5" descr="Рисунок7"/>
          <p:cNvPicPr/>
          <p:nvPr/>
        </p:nvPicPr>
        <p:blipFill>
          <a:blip r:embed="rId4"/>
          <a:stretch/>
        </p:blipFill>
        <p:spPr>
          <a:xfrm>
            <a:off x="304920" y="1066680"/>
            <a:ext cx="8534160" cy="31273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8088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иностранного капитала в экономике России имело и свои минусы: часть прибыли, которая могла бы приумножить национальное богатство страны, расширить капиталовложения, повысить жизненный уровень населения, уходила за гран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Рисунок6"/>
          <p:cNvPicPr/>
          <p:nvPr/>
        </p:nvPicPr>
        <p:blipFill>
          <a:blip r:embed="rId3"/>
          <a:stretch/>
        </p:blipFill>
        <p:spPr>
          <a:xfrm>
            <a:off x="3124080" y="1066680"/>
            <a:ext cx="5791320" cy="3387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228600" y="175248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дите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бри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йн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расный Ок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1828800" y="152280"/>
            <a:ext cx="5334120" cy="106884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57200" y="1523880"/>
            <a:ext cx="266688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мец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33520" y="3581280"/>
            <a:ext cx="259056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ранцуз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" y="5562720"/>
            <a:ext cx="228600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нглий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76720" y="3581280"/>
            <a:ext cx="58672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гольная, металлургия, металлообработка, машиностроение, нефтедобыча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3352680" y="5562720"/>
            <a:ext cx="5410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фтяная, цветные метал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3505320" y="1523880"/>
            <a:ext cx="53337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1828800" y="152280"/>
            <a:ext cx="5334120" cy="58140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хватка капита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1447920" y="2514600"/>
            <a:ext cx="59436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ст иностранных инвести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04920" y="4343400"/>
            <a:ext cx="4038480" cy="2226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е отрасли: химическая, электротехническая, нефтеперерабатывающ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17"/>
          <p:cNvGrpSpPr/>
          <p:nvPr/>
        </p:nvGrpSpPr>
        <p:grpSpPr>
          <a:xfrm>
            <a:off x="1905120" y="1143000"/>
            <a:ext cx="5333760" cy="990720"/>
            <a:chOff x="1905120" y="1143000"/>
            <a:chExt cx="5333760" cy="990720"/>
          </a:xfrm>
        </p:grpSpPr>
        <p:sp>
          <p:nvSpPr>
            <p:cNvPr id="260" name="TextBox 7"/>
            <p:cNvSpPr/>
            <p:nvPr/>
          </p:nvSpPr>
          <p:spPr>
            <a:xfrm>
              <a:off x="1905120" y="1143000"/>
              <a:ext cx="533376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Денежная реформа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С.Ю. Витте (1897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Picture 9" descr="http://zhurnal.lib.ru/img/m/mzm/mzm1902-1903/vitte.jpg"/>
            <p:cNvPicPr/>
            <p:nvPr/>
          </p:nvPicPr>
          <p:blipFill>
            <a:blip r:embed="rId1"/>
            <a:stretch/>
          </p:blipFill>
          <p:spPr>
            <a:xfrm>
              <a:off x="1905120" y="1143000"/>
              <a:ext cx="722160" cy="990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pic>
        <p:nvPicPr>
          <p:cNvPr id="262" name="Picture 11" descr="http://www.ab-land.com.ua/jscript/imagemanager/uploads/flag_engl.jpg"/>
          <p:cNvPicPr/>
          <p:nvPr/>
        </p:nvPicPr>
        <p:blipFill>
          <a:blip r:embed="rId2"/>
          <a:stretch/>
        </p:blipFill>
        <p:spPr>
          <a:xfrm>
            <a:off x="3657600" y="3124080"/>
            <a:ext cx="13240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http://www.avista.su/picture/flags/germany.gif"/>
          <p:cNvPicPr/>
          <p:nvPr/>
        </p:nvPicPr>
        <p:blipFill>
          <a:blip r:embed="rId3"/>
          <a:stretch/>
        </p:blipFill>
        <p:spPr>
          <a:xfrm>
            <a:off x="1676520" y="312408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http://t1.gstatic.com/images?q=tbn:mx9tZnOHxnFCjM::&amp;t=1&amp;usg=__dpKMR9fXkf8N1xeyZGzlnMVHdVE="/>
          <p:cNvPicPr/>
          <p:nvPr/>
        </p:nvPicPr>
        <p:blipFill>
          <a:blip r:embed="rId4"/>
          <a:stretch/>
        </p:blipFill>
        <p:spPr>
          <a:xfrm>
            <a:off x="5638680" y="3124080"/>
            <a:ext cx="12877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4952880" y="4343400"/>
            <a:ext cx="35053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воз части прибыли за границ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— 1903 гг. европейские страны потряс мощный экономический кризис. Он ударил и по российской экономике. Сильнее других пострадала тяжелая промышленность, особенно такие ее отрасли, как металлургия, металлообработка, машиностроение, добыча и переработка неф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0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0" y="0"/>
              <a:ext cx="389880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2" name="Picture 7" descr="Сталелетейный завод. Начало XX века."/>
          <p:cNvPicPr/>
          <p:nvPr/>
        </p:nvPicPr>
        <p:blipFill>
          <a:blip r:embed="rId3"/>
          <a:stretch/>
        </p:blipFill>
        <p:spPr>
          <a:xfrm>
            <a:off x="1447920" y="990720"/>
            <a:ext cx="6400800" cy="323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3" name="Text Box 9"/>
          <p:cNvSpPr/>
          <p:nvPr/>
        </p:nvSpPr>
        <p:spPr>
          <a:xfrm>
            <a:off x="0" y="4343400"/>
            <a:ext cx="883908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ис стал причиной гибели множества предприятий, слабых в финансовом, организационном или техническом отношении. За три года было закрыто свыше 3 тыс. предприятий, на которых было занято 112 тыс. рабочих. Эти предприятия не выдержали конкурентной борьбы. Значительно сократилось 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нодорожное строитель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м капиталистической экономики на кризис стало усиление концентрации производства и создание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нополий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м, что, создавая монополии, собственники отдельных предприятий договаривались об объемах производства, ценах, рынках сбыта сырья и других вопрос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Рисунок4"/>
          <p:cNvPicPr/>
          <p:nvPr/>
        </p:nvPicPr>
        <p:blipFill>
          <a:blip r:embed="rId3"/>
          <a:stretch/>
        </p:blipFill>
        <p:spPr>
          <a:xfrm>
            <a:off x="685800" y="990720"/>
            <a:ext cx="7772400" cy="32115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277" name="Text Box 5"/>
          <p:cNvSpPr/>
          <p:nvPr/>
        </p:nvSpPr>
        <p:spPr>
          <a:xfrm>
            <a:off x="304920" y="990720"/>
            <a:ext cx="8839080" cy="2043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Монополи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крупное хозяйственное объединение, сосредоточившее в своих руках большую часть производства и сбыта какого-либо товара.</a:t>
            </a:r>
            <a:r>
              <a:rPr b="1" i="1" lang="ru-RU" sz="32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04920" y="91440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онополий были различными. Создава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артели, синдикаты, трест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появи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3520" y="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3623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Картель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объединения фирм, компаний, банков, которые договариваются о размерах производства,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рынках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быта, ценах, сохраняя производственную самосто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04920" y="41148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Синдикат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монополистического объединения, заключенного для совместного сбыта товаров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04920" y="5248440"/>
            <a:ext cx="883908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Трес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монополии, при которой входящие в него предприятия полностью теряют свою производ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енную и финансовую самостоятельность и подчин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ю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ся единому управл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80880" y="609480"/>
            <a:ext cx="84582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</a:t>
            </a:r>
            <a:r>
              <a:rPr b="1" i="1" lang="ru-RU" sz="2400" spc="-1" strike="noStrike" u="sng">
                <a:solidFill>
                  <a:srgbClr val="59a9e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— форма объединения предприятий, формально сохраняющих самостоятельность, но фактически подчиненных централизованному финансовому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контролю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руководст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монополий в России стали синдикаты. Они повели борьбу за полное подчинение ведущих отраслей хозяйства. Так, синдикат «Продамета» (1901), объединявший в момент своего возникновения 12 металлургических заводов юга России, в 1904 г. контролировал сбыт 60 %, а в 1912 г. — около 80 % металлургической продукции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5"/>
          <p:cNvPicPr/>
          <p:nvPr/>
        </p:nvPicPr>
        <p:blipFill>
          <a:blip r:embed="rId3"/>
          <a:stretch/>
        </p:blipFill>
        <p:spPr>
          <a:xfrm>
            <a:off x="304920" y="990720"/>
            <a:ext cx="8610480" cy="3024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57200" y="464832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олии возникли и в банковской системе. Пять крупнейших банков контролировали почти половину финансовых операций в стране. Постепенно они начинали теснить иностранные капиталы, становясь основными инвесторами отечественной промышл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Рисунок3"/>
          <p:cNvPicPr/>
          <p:nvPr/>
        </p:nvPicPr>
        <p:blipFill>
          <a:blip r:embed="rId3"/>
          <a:stretch/>
        </p:blipFill>
        <p:spPr>
          <a:xfrm>
            <a:off x="1295280" y="1066680"/>
            <a:ext cx="6172200" cy="34322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990720"/>
            <a:ext cx="8229600" cy="432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вода Основных государственных зак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имп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1. Император всероссийский есть монарх самодержавный и неограниченный. Повиноваться верховной его власти не токмо за страх, но и за совесть сам Бог повелевает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. Никакое место или правительство в государстве не может само собой установить нового закона, и никакой закон не может иметь своего совершения без утверждения Самодержавной вла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акой строй был в Российской империи в н. 20 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648320" y="3276720"/>
            <a:ext cx="4214520" cy="2838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1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495680" y="0"/>
            <a:ext cx="4214880" cy="3139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2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152280" y="0"/>
            <a:ext cx="4070520" cy="685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93" name="TextBox 4"/>
          <p:cNvSpPr/>
          <p:nvPr/>
        </p:nvSpPr>
        <p:spPr>
          <a:xfrm>
            <a:off x="4724280" y="6357960"/>
            <a:ext cx="4071960" cy="30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04920" y="414648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Россия занимала первое место в мире по общему объему сельскохозяйственной продукции. На ее долю приходилось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5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сбора ржи, около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шеницы 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5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экспорта зерна. Быстрыми темпами увеличивалось производство сахарной свеклы, льна, технических культур. Росли поголовье и продуктивность ск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600200" y="0"/>
            <a:ext cx="5867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Рисунок 2" descr="793_5.jpg"/>
          <p:cNvPicPr/>
          <p:nvPr/>
        </p:nvPicPr>
        <p:blipFill>
          <a:blip r:embed="rId3"/>
          <a:stretch/>
        </p:blipFill>
        <p:spPr>
          <a:xfrm>
            <a:off x="1828800" y="750960"/>
            <a:ext cx="5181480" cy="3265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04920" y="41464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берниях Центральной России преобладали полусередняцкие и бедняцкие хозяйства. Товарной продукции они не производили. Поля обрабатывались старыми способами — сохой и деревянной бороной. Нехватка скота и денег не позволяла вносить достаточного количества удобрений. Урожайность была низк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4" descr="Рисунок2"/>
          <p:cNvPicPr/>
          <p:nvPr/>
        </p:nvPicPr>
        <p:blipFill>
          <a:blip r:embed="rId3"/>
          <a:stretch/>
        </p:blipFill>
        <p:spPr>
          <a:xfrm>
            <a:off x="457200" y="914400"/>
            <a:ext cx="8229600" cy="3124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удение центра дополнялось аграрным перенаселением — историки говорят о 20 мл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лишних ртов», не находивших применения в деревне. Ситуацию осложняло сохранение общины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4/5 надельной крестьянской земли находилось в общинном пользов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Рисунок 4" descr="skala3_0.jpg"/>
          <p:cNvPicPr/>
          <p:nvPr/>
        </p:nvPicPr>
        <p:blipFill>
          <a:blip r:embed="rId3"/>
          <a:stretch/>
        </p:blipFill>
        <p:spPr>
          <a:xfrm>
            <a:off x="1523880" y="914400"/>
            <a:ext cx="5943600" cy="3649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380880"/>
            <a:ext cx="8458200" cy="54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так, Россия в начале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X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. по уровню экономического развития была среднеразвитой аграрно-индустриальной страной с многоукладной экономикой. Первоочередной являлась задача модернизации сельского хозяйств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гос власть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39160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империя оставалась самодержавной монархией. В руках императора сосредоточивалась вся полнота государственной власти — законодательной, исполнительной, отчасти судеб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4883040"/>
            <a:ext cx="88390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щательным органом при императоре являлся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Государственный со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имел право «подавать императору мнения по вопросам законодательства». Но император вовсе не был обязан прислушиваться к этим мнени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рх руководил страной через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митет министр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вшийся высшим исполнительным органом империи. Министры были ответственны только перед императоро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был главой не только государства, но и Русской православной церкви, официально признанной «первенствующей и господствующей» в стране. Управление православной церковью царь осуществлял чере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ин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сшим государственным учреждениям относился 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е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ил за законностью действий высших чиновников и обладал правом обнародовать зако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523880"/>
            <a:ext cx="2895480" cy="39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ом Российской империи был двуглавый орел с царскими регалиями — коронами, скипетром и держа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7000" y="1544760"/>
            <a:ext cx="664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Герб Российской Федерации - История герба России."/>
          <p:cNvPicPr/>
          <p:nvPr/>
        </p:nvPicPr>
        <p:blipFill>
          <a:blip r:embed="rId4"/>
          <a:stretch/>
        </p:blipFill>
        <p:spPr>
          <a:xfrm>
            <a:off x="4038480" y="1143000"/>
            <a:ext cx="439740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27000" y="1544760"/>
            <a:ext cx="3341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5105520"/>
            <a:ext cx="80010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представлял собой полотнище с белой, синей и красной горизонтальными полосами. Государственный гимн начинался словами: «Боже, Царя храни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rId3"/>
          </p:cNvPr>
          <p:cNvSpPr/>
          <p:nvPr/>
        </p:nvSpPr>
        <p:spPr>
          <a:xfrm>
            <a:off x="50760" y="1714680"/>
            <a:ext cx="90774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http://www.realto.ru/_images/handnews/48.jpeg"/>
          <p:cNvPicPr/>
          <p:nvPr/>
        </p:nvPicPr>
        <p:blipFill>
          <a:blip r:embed="rId4"/>
          <a:stretch/>
        </p:blipFill>
        <p:spPr>
          <a:xfrm>
            <a:off x="1219320" y="914400"/>
            <a:ext cx="6858000" cy="3911760"/>
          </a:xfrm>
          <a:prstGeom prst="rect">
            <a:avLst/>
          </a:prstGeom>
          <a:ln w="0">
            <a:noFill/>
          </a:ln>
        </p:spPr>
      </p:pic>
      <p:pic>
        <p:nvPicPr>
          <p:cNvPr id="128" name="gimn_-_bozhe_carya_hrani.mp3" descr=""/>
          <p:cNvPicPr/>
          <p:nvPr/>
        </p:nvPicPr>
        <p:blipFill>
          <a:blip r:embed="rId5"/>
          <a:stretch/>
        </p:blipFill>
        <p:spPr>
          <a:xfrm>
            <a:off x="8358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87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990720"/>
            <a:ext cx="800100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дернизац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цес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х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радицион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бщест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еству индустриальном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3352680"/>
            <a:ext cx="80010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Индустриальное общест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общество, в котором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вершен процесс соз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, технически развито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ромышленност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ще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над сельским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хозяй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990720"/>
            <a:ext cx="8001000" cy="506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дернизация охватила все ведущие страны, но у российской модернизации были свои особ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относительно поздно (когда?) вступила на путь капиталистического развит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жно было догонять развитые госуд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лись феодальные пережит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рниз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ходила по инициативе и под контролем государ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низация охватила в основном те отрасли экономики, от которых зависело военное и политическое могущество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51:28Z</dcterms:created>
  <dc:creator>***</dc:creator>
  <dc:description/>
  <dc:language>en-US</dc:language>
  <cp:lastModifiedBy>Эсманская Алла Георгиевна</cp:lastModifiedBy>
  <dcterms:modified xsi:type="dcterms:W3CDTF">2014-06-16T09:28:42Z</dcterms:modified>
  <cp:revision>10</cp:revision>
  <dc:subject/>
  <dc:title>Презентация PowerPoint</dc:title>
</cp:coreProperties>
</file>